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89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1201680" y="667800"/>
            <a:ext cx="4456080" cy="33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4657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4657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8703-3CB3-4179-8533-583AAC49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of cross contamination can be done either using technical or organizational measures . It can be in the form of campaign process , segregation area and machines , used of closed system. In fact , choice of method used for this prevention will depend on the size of enterprise , availability of equipment , source of budget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the prevention for cross contamination and its effectiveness should be made periodical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of contamination should be done in every step of manufacturing processes , it can be happened in the step preparation, weighing , mixing, filling etc. especially for dry product , dissemination of dust during production should be minimized . Type of contaminant can vary , starting form dust ,gases, vapors , spray, residues on equipment, insect , tissue, operators clothing. Area where some susceptible products are processed , such as product for babies or products applied surrounding eye area  should be  monitored  periodically for its microbi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2B01-AF25-46EC-92AB-113810B5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BCD6-A2AE-4531-9900-7FEBBF49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520A-5239-49F8-915B-65902252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7129-EDD5-41CE-B2D3-67CAA565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E3AD9-F5F0-45B9-AAA9-FCA70E21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A96A1-0E86-4B2B-B908-732A46EE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B2DB6-6168-45AC-AED6-DEDF5DE4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91812-8CA5-49AD-9EC2-86EE77C6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498FE-25AB-4377-B84D-B3BF310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44A96-FFEF-4EC4-B1A5-19D0605C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20C8C-70AA-45F5-9E3F-6D8C8505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0BBD-F1DB-47A3-BA49-A41BBDBA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46128-B87D-4252-81A2-B921F335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116B0-B66A-4842-9EF2-5D852E0F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7CB2E-CDD3-46E9-9630-F3440192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0A12F-071F-4CCD-96A0-A205547C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8DB75-D6EE-423B-8E3C-3464B889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80B8-0B1B-409B-8BB5-FDE9EF00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FB97-0678-451F-89A5-2B0C7C8A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826D-6EC8-454E-8A28-5F4A56F0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4CCC-9FC9-4444-89F8-1B82F402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4047-A228-4213-99CA-CD9DDB6A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C260-CAFE-40F7-A178-D277C28A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2766-380D-4A43-8EDF-5191573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7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BB54-CD7C-4591-BCBD-032393DC8B7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of 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81000"/>
            <a:ext cx="685800" cy="4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" name=""/>
          <p:cNvSpPr/>
          <p:nvPr/>
        </p:nvSpPr>
        <p:spPr>
          <a:xfrm>
            <a:off x="0" y="533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ffffff"/>
                </a:solidFill>
                <a:latin typeface="Arial"/>
              </a:rPr>
              <a:t>Project co-financed by European Un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458200" y="0"/>
          <a:ext cx="68580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58200" y="0"/>
                    <a:ext cx="685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8001000" y="609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ffffff"/>
                </a:solidFill>
                <a:latin typeface="Arial"/>
              </a:rPr>
              <a:t>Project co- financ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ffffff"/>
                </a:solidFill>
                <a:latin typeface="Arial"/>
              </a:rPr>
              <a:t>by Asea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76320" y="6321600"/>
            <a:ext cx="547560" cy="4600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9480" y="63216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  <a:ea typeface="MS PGothic"/>
              </a:rPr>
              <a:t>European Committee for Standardiz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  <a:ea typeface="MS PGothic"/>
              </a:rPr>
              <a:t>Implementing Agenc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upplementary Mod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MP Workshop Kuala Lumpur 14-16 Nov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upplementary Training Mod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MP Workshop Kuala Lumpur 14-16 Nov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001000" y="0"/>
            <a:ext cx="1143000" cy="946800"/>
            <a:chOff x="8001000" y="0"/>
            <a:chExt cx="1143000" cy="946800"/>
          </a:xfrm>
        </p:grpSpPr>
        <p:graphicFrame>
          <p:nvGraphicFramePr>
            <p:cNvPr id="50" name=""/>
            <p:cNvGraphicFramePr/>
            <p:nvPr/>
          </p:nvGraphicFramePr>
          <p:xfrm>
            <a:off x="8458200" y="0"/>
            <a:ext cx="685800" cy="627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458200" y="0"/>
                      <a:ext cx="685800" cy="62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8001000" y="609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ffffff"/>
                  </a:solidFill>
                  <a:latin typeface="Arial"/>
                </a:rPr>
                <a:t>Project co- finance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ffffff"/>
                  </a:solidFill>
                  <a:latin typeface="Arial"/>
                </a:rPr>
                <a:t>by Asea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sldNum" idx="5"/>
          </p:nvPr>
        </p:nvSpPr>
        <p:spPr>
          <a:xfrm>
            <a:off x="6857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915E-93C0-4DFE-84BF-41CFCC66E82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of 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0"/>
            <a:ext cx="9907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6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320" y="6321600"/>
            <a:ext cx="1752480" cy="460080"/>
            <a:chOff x="76320" y="6321600"/>
            <a:chExt cx="1752480" cy="460080"/>
          </a:xfrm>
        </p:grpSpPr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76320" y="6321600"/>
              <a:ext cx="5475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09480" y="63216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uropean Committee for Standardizat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mplementing Agenc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0" y="81000"/>
            <a:ext cx="1295280" cy="789840"/>
            <a:chOff x="0" y="81000"/>
            <a:chExt cx="1295280" cy="78984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76320" y="81000"/>
              <a:ext cx="685800" cy="4525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>
              <a:off x="0" y="5335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ffffff"/>
                  </a:solidFill>
                  <a:latin typeface="Arial"/>
                </a:rPr>
                <a:t>Project co-financed by European Un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85800" y="2286000"/>
            <a:ext cx="8456760" cy="114300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51400" y="3962520"/>
            <a:ext cx="1699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6080" y="4359240"/>
            <a:ext cx="51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ed by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ning S. Barwa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ndone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elia M. Malagki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hilipp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yanto Susil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ndone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EAN GMP SUPLEMENTARY TRAINING MODULE</a:t>
            </a:r>
            <a:br>
              <a:rPr sz="2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AMINATION &amp;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OD HOUSEKEEP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4B76D-9265-448F-9825-57F391F513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1946160"/>
            <a:ext cx="8001000" cy="39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f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ross-contamination should be avoided by appropriate technical or organizational measures,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tion in segregated areas, or by campaign  followed by appropriate cleaning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oviding appropriate airlocks, or pressure differential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wearing protective clothing in areas where products with special risk of cross-contamination are processe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sing cleaning and decontamination procedures of known effectiveness, as ineffective cleaning of equipment is a common source of cross-contaminati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sing a "closed system" of producti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sing cleanliness status labels on equip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Tahoma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asures to prevent cross-contamination and their effectiveness should be checked periodically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AMINATION PREVEN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3C1C-6926-43E5-8F32-6A7CFC9A58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30360" y="1371600"/>
            <a:ext cx="52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OOD HOUSEKEE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ACT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14400" y="2438280"/>
            <a:ext cx="4038120" cy="3276360"/>
            <a:chOff x="914400" y="2438280"/>
            <a:chExt cx="4038120" cy="3276360"/>
          </a:xfrm>
        </p:grpSpPr>
        <p:sp>
          <p:nvSpPr>
            <p:cNvPr id="155" name=""/>
            <p:cNvSpPr/>
            <p:nvPr/>
          </p:nvSpPr>
          <p:spPr>
            <a:xfrm>
              <a:off x="914400" y="2438280"/>
              <a:ext cx="3869640" cy="3196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6" name="germ" descr=""/>
            <p:cNvPicPr/>
            <p:nvPr/>
          </p:nvPicPr>
          <p:blipFill>
            <a:blip r:embed="rId1"/>
            <a:srcRect l="10525" t="1512" r="4252" b="10765"/>
            <a:stretch/>
          </p:blipFill>
          <p:spPr>
            <a:xfrm>
              <a:off x="914400" y="2454840"/>
              <a:ext cx="4038120" cy="325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AF62-4BC3-4461-9DD4-DFDFBD30C8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1905120"/>
            <a:ext cx="822960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leaning operations shall be performed in a manner to prevent contamination of materials and produc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Only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cleaning compounds and sanitizers authorized for food contact surfaces shall be used for cleaning. Appropriate verification procedures or testing shall be done periodically to insure that the concentration of Clean-In-Place (CIP) and other cleaning chemicals are consistent with the product labell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hen not in use, all cleaning compounds and sanitizers shall be properly labelled and stored in a locked compartment, away from production and storage a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aning equipment and tools shall be supplied and be readily available for use. All cleaning equip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hall be maintained and stored in such a way as not to contamin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or equip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6477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F3A1-98B0-4091-BAB3-B28BF4F751B2}" type="slidenum">
              <a:rPr b="1" lang="en-GB" sz="1600" spc="-1" strike="noStrike">
                <a:solidFill>
                  <a:srgbClr val="0000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oid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EANING PRACT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B049-A2FE-4A57-9EF1-8C7E9F8EA4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8120" y="1752480"/>
            <a:ext cx="58672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escription of cleaning can be divided by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840" indent="-3938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“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eep cleanin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” shall be assigned to the appropriate department(s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for germ removal,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nd shall be accomplished by and consistent with a Master Cleaning Schedul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840" indent="-3938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aily “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Housekeeping or Cosmetic Cleanin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” shall be assigned to the appropriate departments and shall be undertaken to ensure work and support areas are maintained during normal working hours. All such operations should be undertaken in a manner to prevent contamination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840" indent="-3938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aintenance clea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” shall be assigned for maintenance purp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clean%20sapu" descr=""/>
          <p:cNvPicPr/>
          <p:nvPr/>
        </p:nvPicPr>
        <p:blipFill>
          <a:blip r:embed="rId1"/>
          <a:srcRect l="2467" t="0" r="0" b="0"/>
          <a:stretch/>
        </p:blipFill>
        <p:spPr>
          <a:xfrm>
            <a:off x="228600" y="198108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SIC DESCRIP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DB3D-47E5-469D-B629-CB9FA65604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66680" y="1828800"/>
            <a:ext cx="7086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personnel responsible to keep the cleanliness of working 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09480" y="2743200"/>
            <a:ext cx="8001000" cy="3533400"/>
            <a:chOff x="609480" y="2743200"/>
            <a:chExt cx="8001000" cy="3533400"/>
          </a:xfrm>
        </p:grpSpPr>
        <p:sp>
          <p:nvSpPr>
            <p:cNvPr id="165" name=""/>
            <p:cNvSpPr/>
            <p:nvPr/>
          </p:nvSpPr>
          <p:spPr>
            <a:xfrm>
              <a:off x="609480" y="2743200"/>
              <a:ext cx="8001000" cy="3505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85800" y="2895480"/>
              <a:ext cx="2209680" cy="2010600"/>
              <a:chOff x="685800" y="2895480"/>
              <a:chExt cx="2209680" cy="2010600"/>
            </a:xfrm>
          </p:grpSpPr>
          <p:sp>
            <p:nvSpPr>
              <p:cNvPr id="167" name=""/>
              <p:cNvSpPr/>
              <p:nvPr/>
            </p:nvSpPr>
            <p:spPr>
              <a:xfrm>
                <a:off x="1371960" y="4537800"/>
                <a:ext cx="95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Class 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8" name="housekeeping%20class%203" descr=""/>
              <p:cNvPicPr/>
              <p:nvPr/>
            </p:nvPicPr>
            <p:blipFill>
              <a:blip r:embed="rId1"/>
              <a:srcRect l="0" t="0" r="0" b="7071"/>
              <a:stretch/>
            </p:blipFill>
            <p:spPr>
              <a:xfrm>
                <a:off x="685800" y="2895480"/>
                <a:ext cx="2209680" cy="162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"/>
            <p:cNvGrpSpPr/>
            <p:nvPr/>
          </p:nvGrpSpPr>
          <p:grpSpPr>
            <a:xfrm>
              <a:off x="2590920" y="4214880"/>
              <a:ext cx="2209680" cy="2061720"/>
              <a:chOff x="2590920" y="4214880"/>
              <a:chExt cx="2209680" cy="2061720"/>
            </a:xfrm>
          </p:grpSpPr>
          <p:sp>
            <p:nvSpPr>
              <p:cNvPr id="170" name=""/>
              <p:cNvSpPr/>
              <p:nvPr/>
            </p:nvSpPr>
            <p:spPr>
              <a:xfrm>
                <a:off x="3278520" y="5908320"/>
                <a:ext cx="95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Class 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71" name="housekeeping%20class%20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90920" y="4214880"/>
                <a:ext cx="2209680" cy="1751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2" name=""/>
            <p:cNvGrpSpPr/>
            <p:nvPr/>
          </p:nvGrpSpPr>
          <p:grpSpPr>
            <a:xfrm>
              <a:off x="5462640" y="2913120"/>
              <a:ext cx="3147840" cy="3232080"/>
              <a:chOff x="5462640" y="2913120"/>
              <a:chExt cx="3147840" cy="3232080"/>
            </a:xfrm>
          </p:grpSpPr>
          <p:sp>
            <p:nvSpPr>
              <p:cNvPr id="173" name=""/>
              <p:cNvSpPr/>
              <p:nvPr/>
            </p:nvSpPr>
            <p:spPr>
              <a:xfrm>
                <a:off x="6577920" y="5776920"/>
                <a:ext cx="955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Class 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74" name="housekeeping%20class%20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62640" y="2913120"/>
                <a:ext cx="3147840" cy="293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5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EANLINESS PRINCIP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D0C3-E8EC-4297-A74E-F3EA77333C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752480"/>
            <a:ext cx="4952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housekeeping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ll be maintained at all ti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838080" y="2057400"/>
            <a:ext cx="8153640" cy="1828800"/>
            <a:chOff x="838080" y="2057400"/>
            <a:chExt cx="8153640" cy="182880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6858000" y="2057400"/>
              <a:ext cx="2133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38080" y="2895480"/>
              <a:ext cx="5715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407160" indent="-40716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SzPct val="120000"/>
                <a:buFont typeface="Wingdings 2" charset="2"/>
                <a:buChar char="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rea and products shall be free from dust, dirt, cobweb garbage materi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57200" y="4114800"/>
            <a:ext cx="8381880" cy="2133720"/>
            <a:chOff x="457200" y="4114800"/>
            <a:chExt cx="8381880" cy="2133720"/>
          </a:xfrm>
        </p:grpSpPr>
        <p:pic>
          <p:nvPicPr>
            <p:cNvPr id="181" name="NA0728" descr=""/>
            <p:cNvPicPr/>
            <p:nvPr/>
          </p:nvPicPr>
          <p:blipFill>
            <a:blip r:embed="rId2"/>
            <a:stretch/>
          </p:blipFill>
          <p:spPr>
            <a:xfrm>
              <a:off x="2743200" y="4456080"/>
              <a:ext cx="1600200" cy="15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SPIDR005" descr=""/>
            <p:cNvPicPr/>
            <p:nvPr/>
          </p:nvPicPr>
          <p:blipFill>
            <a:blip r:embed="rId3"/>
            <a:stretch/>
          </p:blipFill>
          <p:spPr>
            <a:xfrm>
              <a:off x="593640" y="4267080"/>
              <a:ext cx="184464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flipH="1">
              <a:off x="457200" y="4280040"/>
              <a:ext cx="3581280" cy="1766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520" y="4214880"/>
              <a:ext cx="3733560" cy="203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0" y="4114800"/>
              <a:ext cx="42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marL="389160" indent="-389160">
                <a:lnSpc>
                  <a:spcPct val="90000"/>
                </a:lnSpc>
                <a:spcBef>
                  <a:spcPts val="1500"/>
                </a:spcBef>
                <a:buClr>
                  <a:srgbClr val="ffffff"/>
                </a:buClr>
                <a:buSzPct val="120000"/>
                <a:buFont typeface="Wingdings 2" charset="2"/>
                <a:buChar char="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rmal housekeeping inspections shall be d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572000" y="510552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02480" indent="-402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0000"/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ning materials shall be kept in designated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1880" y="6477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5526-1702-4A7F-B2E0-C498EE6D5CAC}" type="slidenum">
              <a:rPr b="1" lang="en-GB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EANLINESS PRACTIC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1E51-D54A-4E37-97E9-14FFA23491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14480" y="1676520"/>
            <a:ext cx="8953200" cy="3028320"/>
            <a:chOff x="114480" y="1676520"/>
            <a:chExt cx="8953200" cy="3028320"/>
          </a:xfrm>
        </p:grpSpPr>
        <p:sp>
          <p:nvSpPr>
            <p:cNvPr id="190" name=""/>
            <p:cNvSpPr/>
            <p:nvPr/>
          </p:nvSpPr>
          <p:spPr>
            <a:xfrm>
              <a:off x="1447920" y="1834920"/>
              <a:ext cx="5562360" cy="27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2520" indent="-452520">
                <a:lnSpc>
                  <a:spcPct val="90000"/>
                </a:lnSpc>
                <a:spcBef>
                  <a:spcPts val="1500"/>
                </a:spcBef>
                <a:buClr>
                  <a:srgbClr val="ffffff"/>
                </a:buClr>
                <a:buFont typeface="Wingdings 2" charset="2"/>
                <a:buChar char="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uildings, fixtures, and other physical facilities of the plant shall be maintained in a sanitary condition and shall be kept in repair sufficient to prevent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duct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from becoming adulterated within the meaning of the ac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" name="PE02000_" descr=""/>
            <p:cNvPicPr/>
            <p:nvPr/>
          </p:nvPicPr>
          <p:blipFill>
            <a:blip r:embed="rId1"/>
            <a:stretch/>
          </p:blipFill>
          <p:spPr>
            <a:xfrm>
              <a:off x="6931080" y="1676520"/>
              <a:ext cx="2136600" cy="24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IN00324_" descr=""/>
            <p:cNvPicPr/>
            <p:nvPr/>
          </p:nvPicPr>
          <p:blipFill>
            <a:blip r:embed="rId2"/>
            <a:stretch/>
          </p:blipFill>
          <p:spPr>
            <a:xfrm>
              <a:off x="114480" y="2723760"/>
              <a:ext cx="1562040" cy="19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762120" y="4495680"/>
            <a:ext cx="8153280" cy="1810800"/>
            <a:chOff x="762120" y="4495680"/>
            <a:chExt cx="8153280" cy="1810800"/>
          </a:xfrm>
        </p:grpSpPr>
        <p:sp>
          <p:nvSpPr>
            <p:cNvPr id="194" name=""/>
            <p:cNvSpPr/>
            <p:nvPr/>
          </p:nvSpPr>
          <p:spPr>
            <a:xfrm>
              <a:off x="2057400" y="4495680"/>
              <a:ext cx="6858000" cy="17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2520" indent="-452520">
                <a:lnSpc>
                  <a:spcPct val="90000"/>
                </a:lnSpc>
                <a:spcBef>
                  <a:spcPts val="1500"/>
                </a:spcBef>
                <a:buClr>
                  <a:srgbClr val="ffffff"/>
                </a:buClr>
                <a:buFont typeface="Wingdings 2" charset="2"/>
                <a:buChar char="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Cleaning and sanitizing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f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utensils and equipment shall be conducted in a manner that protects against contamination of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cosmetic product, product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-contact surfaces, or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duct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-packaging materials.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62120" y="4935240"/>
              <a:ext cx="1447200" cy="1371240"/>
              <a:chOff x="762120" y="4935240"/>
              <a:chExt cx="1447200" cy="1371240"/>
            </a:xfrm>
          </p:grpSpPr>
          <p:sp>
            <p:nvSpPr>
              <p:cNvPr id="196" name=""/>
              <p:cNvSpPr/>
              <p:nvPr/>
            </p:nvSpPr>
            <p:spPr>
              <a:xfrm>
                <a:off x="853560" y="5019840"/>
                <a:ext cx="1190880" cy="109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7" name="corrosive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120" y="4935240"/>
                <a:ext cx="1447200" cy="1371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8" name=""/>
          <p:cNvSpPr/>
          <p:nvPr/>
        </p:nvSpPr>
        <p:spPr>
          <a:xfrm>
            <a:off x="129528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EANLINESS PRACTIC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0D4E-0092-4462-BB00-3276DDCF4D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good%20housekeeping2" descr=""/>
          <p:cNvPicPr/>
          <p:nvPr/>
        </p:nvPicPr>
        <p:blipFill>
          <a:blip r:embed="rId1"/>
          <a:srcRect l="0" t="2220" r="0" b="0"/>
          <a:stretch/>
        </p:blipFill>
        <p:spPr>
          <a:xfrm>
            <a:off x="1447920" y="1752480"/>
            <a:ext cx="6324480" cy="4357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869120" y="36576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cessing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09000" y="36576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ckaging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6920" y="594360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ck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48880" y="5943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boratory are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OD HOUSEKEEP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1B61-EBB8-4830-90C2-97525C30AC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5638680" y="1752480"/>
            <a:ext cx="3352680" cy="4419360"/>
            <a:chOff x="5638680" y="1752480"/>
            <a:chExt cx="3352680" cy="4419360"/>
          </a:xfrm>
        </p:grpSpPr>
        <p:sp>
          <p:nvSpPr>
            <p:cNvPr id="206" name=""/>
            <p:cNvSpPr/>
            <p:nvPr/>
          </p:nvSpPr>
          <p:spPr>
            <a:xfrm>
              <a:off x="5638680" y="1752480"/>
              <a:ext cx="3352680" cy="4419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7" name="5%20S" descr=""/>
            <p:cNvPicPr/>
            <p:nvPr/>
          </p:nvPicPr>
          <p:blipFill>
            <a:blip r:embed="rId1"/>
            <a:stretch/>
          </p:blipFill>
          <p:spPr>
            <a:xfrm>
              <a:off x="5790960" y="3352680"/>
              <a:ext cx="2895480" cy="28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magnify" descr=""/>
            <p:cNvPicPr/>
            <p:nvPr/>
          </p:nvPicPr>
          <p:blipFill>
            <a:blip r:embed="rId2"/>
            <a:stretch/>
          </p:blipFill>
          <p:spPr>
            <a:xfrm>
              <a:off x="6400440" y="1904760"/>
              <a:ext cx="25146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705360" y="2223720"/>
              <a:ext cx="1509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Copperplate Gothic Bold"/>
                </a:rPr>
                <a:t>Keep work area clean &amp; orderl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7200" y="1828800"/>
            <a:ext cx="5029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s the quality of        materials and product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imizes errors and prevents contaminatio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sures safety in the work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NEFIT GOOD HOUSEKEEP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5354-1471-48A1-840A-F44050A362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144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lean Workplace is High in QUA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lean Workplace is High in PRODUCTIV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lean Workplace Keeps COSTS Dow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lean Workplace Saves TI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lean Workplace Ensures EFFICIENT Deliver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lean Workplace Provides HEALTHY environm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lean Workplace is SAFE for people to work i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lean Workplace is High in MORA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75680" y="4952880"/>
            <a:ext cx="5110560" cy="1374120"/>
            <a:chOff x="1975680" y="4952880"/>
            <a:chExt cx="5110560" cy="1374120"/>
          </a:xfrm>
        </p:grpSpPr>
        <p:sp>
          <p:nvSpPr>
            <p:cNvPr id="214" name=""/>
            <p:cNvSpPr/>
            <p:nvPr/>
          </p:nvSpPr>
          <p:spPr>
            <a:xfrm>
              <a:off x="1981080" y="4952880"/>
              <a:ext cx="5105160" cy="1295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000160" y="4952880"/>
              <a:ext cx="5067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975680" y="6019920"/>
              <a:ext cx="227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efore cleaning progr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4400" y="6019920"/>
              <a:ext cx="213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fter cleaning progr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29528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TAGES GOOD HOUSEKEE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A41F-DE8A-4DC7-94B4-F4E32B79F8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876920" y="1752480"/>
            <a:ext cx="40384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"/>
              </a:rPr>
              <a:t>A key principle in understanding contamination control is to realize that it is much easier to fix a contamination problem prior to it entering your system rather than trying to fix it after a system has been contaminated.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ntamination can be prevented by practice good sanitation and hygiene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2560" y="5257800"/>
            <a:ext cx="39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n ounce of prevention is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an a pound of c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6477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87B7-5CC2-44DC-9109-E67C159AABD6}" type="slidenum">
              <a:rPr b="1" lang="en-GB" sz="1600" spc="-1" strike="noStrike">
                <a:solidFill>
                  <a:srgbClr val="0000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Hygiene%20soap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495680" cy="3371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Y PRINCIP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0D0D-93A2-4F2B-ACDE-908DA477A4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903320"/>
            <a:ext cx="624816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EAN Guidelines for Cosmetic GMP (200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rwa, N.S. Good Housekeeping, Jakarta (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7EC2-AF0D-444C-AF2E-88847FC3EC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AN00790_" descr=""/>
          <p:cNvPicPr/>
          <p:nvPr/>
        </p:nvPicPr>
        <p:blipFill>
          <a:blip r:embed="rId1"/>
          <a:stretch/>
        </p:blipFill>
        <p:spPr>
          <a:xfrm>
            <a:off x="380880" y="1711440"/>
            <a:ext cx="3765600" cy="3927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3800520" y="2438280"/>
            <a:ext cx="435276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ank Yo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4324-19D7-4A11-9EE4-6FE5E8712E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90240" y="1143000"/>
            <a:ext cx="426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 ISSUES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NTA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lean%20bacteria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43434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DFEB-3C8D-47CB-8C98-3A40E6DFE4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erm%20&amp;%20dust" descr=""/>
          <p:cNvPicPr/>
          <p:nvPr/>
        </p:nvPicPr>
        <p:blipFill>
          <a:blip r:embed="rId1"/>
          <a:stretch/>
        </p:blipFill>
        <p:spPr>
          <a:xfrm>
            <a:off x="76320" y="2133720"/>
            <a:ext cx="4267080" cy="3504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43400" y="2165400"/>
            <a:ext cx="464832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te conta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contamination,   mix-ups and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eign matter conta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bial conta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6477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FE2F-2277-418D-8CE9-83BDBFB4219D}" type="slidenum">
              <a:rPr b="1" lang="en-GB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YPE OF CONTAMIN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AE8C-012E-4FCF-A7D1-39A673C610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62520" y="1981080"/>
            <a:ext cx="48765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two primary types of particulate contamination 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39996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c particulates.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3999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consist primarily of human body parts such as hair, dandruff flakes, skin cells, sweat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39996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les generated during one of manufacturing process, water handling, probing, storage, such as dirt, dust, lint, fi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clean%20equipment%20cartoon" descr=""/>
          <p:cNvPicPr/>
          <p:nvPr/>
        </p:nvPicPr>
        <p:blipFill>
          <a:blip r:embed="rId1"/>
          <a:stretch/>
        </p:blipFill>
        <p:spPr>
          <a:xfrm>
            <a:off x="695160" y="2514600"/>
            <a:ext cx="28101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1880" y="6477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CF15-34A3-4179-A9BA-CD999A82082E}" type="slidenum">
              <a:rPr b="1" lang="en-GB" sz="1600" spc="-1" strike="noStrike">
                <a:solidFill>
                  <a:srgbClr val="0000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clean%20equipment%20cartoon" descr=""/>
          <p:cNvPicPr/>
          <p:nvPr/>
        </p:nvPicPr>
        <p:blipFill>
          <a:blip r:embed="rId2"/>
          <a:stretch/>
        </p:blipFill>
        <p:spPr>
          <a:xfrm>
            <a:off x="396720" y="2133720"/>
            <a:ext cx="3260880" cy="3801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of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TICULATES CONTA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2BB3-FAC8-4A17-BB11-743A0C8E7B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57600" y="2075040"/>
            <a:ext cx="49528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-contamination caused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ntilation system not properly filt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iner not sealed tigh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34272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-up of left-over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0880" y="1752480"/>
            <a:ext cx="2971800" cy="2743200"/>
            <a:chOff x="380880" y="1752480"/>
            <a:chExt cx="2971800" cy="2743200"/>
          </a:xfrm>
        </p:grpSpPr>
        <p:graphicFrame>
          <p:nvGraphicFramePr>
            <p:cNvPr id="130" name=""/>
            <p:cNvGraphicFramePr/>
            <p:nvPr/>
          </p:nvGraphicFramePr>
          <p:xfrm>
            <a:off x="380880" y="2273400"/>
            <a:ext cx="2971800" cy="222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73400"/>
                      <a:ext cx="2971800" cy="22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451440" y="1752480"/>
              <a:ext cx="1472400" cy="762120"/>
            </a:xfrm>
            <a:prstGeom prst="wedgeEllipseCallout">
              <a:avLst>
                <a:gd name="adj1" fmla="val 33481"/>
                <a:gd name="adj2" fmla="val 114791"/>
              </a:avLst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2360" y="1803240"/>
              <a:ext cx="13438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irborne powder from component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28600" y="4648320"/>
            <a:ext cx="4876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an avoid this CGMP violation by carefully following our SOP’s when cleaning premises, equipment and contain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6477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8CC1-DD35-4206-A2C1-F372FB764E4A}" type="slidenum">
              <a:rPr b="1" lang="en-GB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257800" y="4321080"/>
            <a:ext cx="3606120" cy="2308320"/>
            <a:chOff x="5257800" y="4321080"/>
            <a:chExt cx="3606120" cy="2308320"/>
          </a:xfrm>
        </p:grpSpPr>
        <p:graphicFrame>
          <p:nvGraphicFramePr>
            <p:cNvPr id="137" name=""/>
            <p:cNvGraphicFramePr/>
            <p:nvPr/>
          </p:nvGraphicFramePr>
          <p:xfrm>
            <a:off x="5257800" y="4321080"/>
            <a:ext cx="3200400" cy="2308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4321080"/>
                      <a:ext cx="320040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7159320" y="4394160"/>
              <a:ext cx="1704600" cy="55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Tahoma"/>
                </a:rPr>
                <a:t>left o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Tahoma"/>
                </a:rPr>
                <a:t>component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314840" y="4876920"/>
              <a:ext cx="60948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of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OSS CONTA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043C-42BA-4565-BCE8-7A4589D7BF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114800" y="2133720"/>
            <a:ext cx="4724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mination comes from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 &amp; dr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d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ning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bric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hine p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1880" y="6477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9A5-A0BE-4C9D-946B-9B290A85311C}" type="slidenum">
              <a:rPr b="1" lang="en-GB" sz="1600" spc="-1" strike="noStrike">
                <a:solidFill>
                  <a:srgbClr val="0000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est%20burung" descr=""/>
          <p:cNvPicPr/>
          <p:nvPr/>
        </p:nvPicPr>
        <p:blipFill>
          <a:blip r:embed="rId1"/>
          <a:stretch/>
        </p:blipFill>
        <p:spPr>
          <a:xfrm>
            <a:off x="228600" y="2419200"/>
            <a:ext cx="3657600" cy="3143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of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EIGN MATTER CONTA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850F-4F45-4D4F-8320-893CBD8157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2155680"/>
            <a:ext cx="769608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2520" indent="-452520" algn="just">
              <a:lnSpc>
                <a:spcPct val="85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Microorganisms means yeasts, molds, bacteria, and viruses and includes, but is not limited to, species having public health significan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 algn="just">
              <a:lnSpc>
                <a:spcPct val="85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The term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“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undesirable microorganisms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includes those microorganisms that are of public health significance, that subjec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cosmetic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 to decomposition, that indicate tha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produc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 is contaminated with filth, or that otherwise may caus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produc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 to be adulterated within the meaning of the a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 algn="just">
              <a:lnSpc>
                <a:spcPct val="85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Occasionally in these regulations, FDA used the adjective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“</a:t>
            </a:r>
            <a:r>
              <a:rPr b="1" i="1" lang="en-GB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microbial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”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 instead of using an adjectival phrase containing the wo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icroorganis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”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6477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ED2F-4D78-4AE8-A7D3-97AE3284B69E}" type="slidenum">
              <a:rPr b="1" lang="en-GB" sz="1600" spc="-1" strike="noStrike">
                <a:solidFill>
                  <a:srgbClr val="0000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of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ICROBIAL CONTA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E51A-BFB5-45F3-B6B2-9F1DBEECFD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1784520"/>
            <a:ext cx="731520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event the generation and dissemination of dust during production of dry product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 algn="just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ontamination of a starting material or of a product by another material or product has to be avoide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 algn="just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his risk of accidental cross-contamination arises from the uncontrolled release of dust, gases, vapors, sprays, or organisms from materials and products in process, from residues on equipment, from intruding insects, operators' clothing, skin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 algn="just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mong the most hazardous contaminants are highly sensitizing materials, biological preparations such as living organis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 algn="just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tion areas where susceptible products are processed should undergo periodic microbiological monitor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AMINATION PREVENTION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BC Meeting - 21 November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B304-81B5-485D-8B26-096E26E053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5:50:31Z</dcterms:created>
  <dc:creator>ASEAN GMP TEAM</dc:creator>
  <dc:description/>
  <dc:language>en-US</dc:language>
  <cp:lastModifiedBy>NSBarwa</cp:lastModifiedBy>
  <cp:lastPrinted>2002-11-21T02:12:08Z</cp:lastPrinted>
  <dcterms:modified xsi:type="dcterms:W3CDTF">2005-11-13T06:28:53Z</dcterms:modified>
  <cp:revision>148</cp:revision>
  <dc:subject>GMP DOCUMENTATION</dc:subject>
  <dc:title>ASEAN GMP GUIDELINE</dc:title>
</cp:coreProperties>
</file>