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DC8F2-275D-4A6D-8BF1-307268B800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F949B-F680-4940-BF25-835C9311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3119F-A60B-4724-9E75-35F8D531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72A9F-810E-4FDA-BC89-E7DC91FDDB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5B4EF8-E6B7-41C4-AC7F-5AB907E906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BCBD89-80CC-42D7-B50D-B3C15F73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5D03A9-BE7C-40B9-88A4-6F15F856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72C77A-9186-4DEE-8F59-DAC6E539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F4C0BE-3F44-4D59-A7EE-F085241B0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0B6BA-596E-4137-A794-B3DD65579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7D54D-ECBF-474D-BC0A-6ACEDFE2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81F39-2C23-4596-B655-B17ECFDB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C0E062-7145-49C8-BF29-F19CF152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0150A-2E79-43B5-A5CC-CD09139F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B312A-89A6-4363-AECC-BF311C47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F6D27-FAC8-48B0-A1BB-08024EC6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D456DB-0C3B-471E-B76F-8E0E46BB53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BC79B-9A42-4303-BE7E-382165B9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40287-CFA4-4B55-8962-9A362108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A0CD3-B692-47A2-8C7C-6379B645E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A3094-1789-47B6-A193-910F001CB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E3843-9F08-4500-8A92-8E2137E1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0C87B-B59A-40CD-A88C-F6556171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F63E9-52FE-4ADB-86E6-096708CA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.pn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4"/>
          <a:stretch/>
        </p:blipFill>
        <p:spPr>
          <a:xfrm>
            <a:off x="76320" y="81000"/>
            <a:ext cx="685800" cy="45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"/>
          <p:cNvSpPr/>
          <p:nvPr/>
        </p:nvSpPr>
        <p:spPr>
          <a:xfrm>
            <a:off x="0" y="5335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Tahoma"/>
              </a:rPr>
              <a:t>Project co-financed by European Un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8458200" y="0"/>
          <a:ext cx="685800" cy="62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58200" y="0"/>
                    <a:ext cx="68580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"/>
          <p:cNvSpPr/>
          <p:nvPr/>
        </p:nvSpPr>
        <p:spPr>
          <a:xfrm>
            <a:off x="8001000" y="6094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Tahoma"/>
              </a:rPr>
              <a:t>Project co- finan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Tahoma"/>
              </a:rPr>
              <a:t>by Ase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76320" y="6321600"/>
            <a:ext cx="547560" cy="4600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609480" y="632160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MS PGothic"/>
              </a:rPr>
              <a:t>European Committee for Standardiz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MS PGothic"/>
              </a:rPr>
              <a:t>Implementing Agenc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76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4771-66AE-4548-A180-8FA5EDE7818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305400"/>
            <a:ext cx="4038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MP Workshop Kuala Lumpur 14-16 Nov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6320" y="81000"/>
            <a:ext cx="685800" cy="45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0" y="5335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Tahoma"/>
              </a:rPr>
              <a:t>Project co-financed by European Un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8458200" y="0"/>
          <a:ext cx="685800" cy="62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58200" y="0"/>
                    <a:ext cx="68580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8001000" y="6094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Tahoma"/>
              </a:rPr>
              <a:t>Project co- finan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Tahoma"/>
              </a:rPr>
              <a:t>by Ase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76320" y="6321600"/>
            <a:ext cx="547560" cy="460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632160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MS PGothic"/>
              </a:rPr>
              <a:t>European Committee for Standardiz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ahoma"/>
                <a:ea typeface="MS PGothic"/>
              </a:rPr>
              <a:t>Implementing Agenc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8576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4C7B-58CF-4CFD-8E8C-04A57894D6F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43200" y="6305400"/>
            <a:ext cx="4038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MP Workshop Kuala Lumpur 14-16 Nov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SOP%20of%20Contract%20Manufacturing.doc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88680" y="3429000"/>
            <a:ext cx="594324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199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par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199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therine Clare Rivera – Philipp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199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199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roved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199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EAN Cosmetic GMP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199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199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orsed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199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EAN Cosmetic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EAN GMP TRAINING MODULE</a:t>
            </a:r>
            <a:br>
              <a:rPr sz="24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TRACT MANUFACTU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&amp;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7CCA7-844C-4741-9D3C-F700A943B966}" type="slidenum">
              <a:t>1</a:t>
            </a:fld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71600" y="838080"/>
            <a:ext cx="6477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LATED HYPERLINK DOC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2133720"/>
            <a:ext cx="7238880" cy="289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03480" y="2249640"/>
            <a:ext cx="63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buClr>
                <a:srgbClr val="3333ff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Trainer Manual of Contract Manufacturing &amp;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buClr>
                <a:srgbClr val="3333ff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ample of Contract Manufacturing Agreement S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CC514-1772-4EA1-A278-1D1F3ADA81CD}" type="slidenum">
              <a:t>10</a:t>
            </a:fld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838080"/>
            <a:ext cx="6477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1887480"/>
            <a:ext cx="662940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EAN Guidelines for Cosmetic GMP (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E03329A" descr=""/>
          <p:cNvPicPr/>
          <p:nvPr/>
        </p:nvPicPr>
        <p:blipFill>
          <a:blip r:embed="rId1"/>
          <a:stretch/>
        </p:blipFill>
        <p:spPr>
          <a:xfrm>
            <a:off x="3276720" y="3581280"/>
            <a:ext cx="2438280" cy="1852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272FC-0CEB-4400-B9C4-DCE9F1369D11}" type="slidenum">
              <a:t>11</a:t>
            </a:fld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400480" y="1600200"/>
            <a:ext cx="4228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HANK YOU</a:t>
            </a:r>
            <a:endParaRPr b="0" lang="en-US" sz="1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3" name="BD05584_" descr=""/>
          <p:cNvPicPr/>
          <p:nvPr/>
        </p:nvPicPr>
        <p:blipFill>
          <a:blip r:embed="rId1"/>
          <a:stretch/>
        </p:blipFill>
        <p:spPr>
          <a:xfrm>
            <a:off x="3048120" y="2819520"/>
            <a:ext cx="2971800" cy="3504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0F7A8-1DCF-4BAD-AA70-084E0E78EAEC}" type="slidenum">
              <a:t>12</a:t>
            </a:fld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371600" y="838080"/>
            <a:ext cx="6477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ONTENT OF PRES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71600" y="2637000"/>
            <a:ext cx="647712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 Manufacturing &amp;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of a Con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715000" y="4648320"/>
            <a:ext cx="2057400" cy="191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A2B90-A694-4DA1-A6EE-C42BD715F20B}" type="slidenum">
              <a:t>2</a:t>
            </a:fld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1760" y="19047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define the requirements for contract manufacturing and testing laboratory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establish the role and responsibilities between the contract giver and accep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85716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838080"/>
            <a:ext cx="6477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172200" y="4191120"/>
            <a:ext cx="1978200" cy="202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4E18D-0233-4E04-B48D-ADD68D6489F4}" type="slidenum">
              <a:t>3</a:t>
            </a:fld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600200" y="2057400"/>
            <a:ext cx="6019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module will apply to contract giver and contract acceptor (cosmetic manufacturing facility and testing/analysis laboratory)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838080"/>
            <a:ext cx="6477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C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4BA8A-A1C8-48A8-B486-B2BBDAAE24A8}" type="slidenum">
              <a:t>4</a:t>
            </a:fld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 algn="just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nditions of contract manufacturing and analysis should be clearly defined, agreed and controlled so as to avoid misunderstanding which could result in a product or work of unsatisfactory quality.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438840" indent="-438840" algn="just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should be a contract between the contract giver and acceptor to clearly establish the duties and responsibilities of each party.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438840" indent="-438840" algn="just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official contract must be binding in accordance to the respective legislation of the ASEAN member countries. 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43884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43884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838080"/>
            <a:ext cx="6477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ENERAL DESCRI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CC954-0646-4E42-AD88-C1F4FAB47DB4}" type="slidenum">
              <a:t>5</a:t>
            </a:fld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838080"/>
            <a:ext cx="6477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QUIREMENT OF CONTRACT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2090880"/>
            <a:ext cx="62481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ntract manufacturing acceptor must comply with ASEAN GM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ntract analysis acceptor must be duly accredited by the relevant appointed accreditation agenc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2272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22E9B-D279-42EA-ACC9-2F17F4172D13}" type="slidenum">
              <a:t>6</a:t>
            </a:fld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371600" y="838080"/>
            <a:ext cx="6477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QUIREMENT OF CONTRACT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1600200"/>
            <a:ext cx="8305920" cy="52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written contract must includ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393480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ly authorized representatives from the contract acceptor and g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39348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Tahoma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ope of work identified between the contract acceptor and giver taking into consideration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39720" indent="-342720">
              <a:lnSpc>
                <a:spcPct val="8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contract manufactur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944720" indent="-290520">
              <a:lnSpc>
                <a:spcPct val="85000"/>
              </a:lnSpc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ula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944720" indent="-290520">
              <a:lnSpc>
                <a:spcPct val="85000"/>
              </a:lnSpc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totype and acceptance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944720" indent="-290520">
              <a:lnSpc>
                <a:spcPct val="85000"/>
              </a:lnSpc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fety and efficacy tests, if 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944720" indent="-290520">
              <a:lnSpc>
                <a:spcPct val="85000"/>
              </a:lnSpc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aging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944720" indent="-290520">
              <a:lnSpc>
                <a:spcPct val="85000"/>
              </a:lnSpc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w and packaging materials supply and testing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9720" indent="-342720">
              <a:lnSpc>
                <a:spcPct val="8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contract analys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944720" indent="-29052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ing: sampling plan, quantity of sample, sampling contai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944720" indent="-29052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944720" indent="-29052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Format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723F2-3442-4130-A69E-8EC2FB3828C9}" type="slidenum">
              <a:t>7</a:t>
            </a:fld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219320" y="1787400"/>
            <a:ext cx="6629400" cy="30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627120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c. List of products for contract manufact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d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ished product specifications including directions for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e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ing sizes, container specifications an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f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ipping labels and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g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age condition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838080"/>
            <a:ext cx="6477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QUIREMENT OF CONTRACT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7732F-1FFD-46FF-A137-0B486FFCC2BD}" type="slidenum">
              <a:t>8</a:t>
            </a:fld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38080" y="1959120"/>
            <a:ext cx="7467840" cy="46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6271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both parties are jointly responsible for the quality of the products or the tests subject of the contr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9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ntract giver shall have the right to audit the manufacturing site and/or supervise  the process of testing the contracted products during the period covered by the contr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9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ntract acceptor shall not  deviate or make any changes to the formulation and/or process/es agreed upon by the parties for the manufacture or analysis of the product  without the prior consent of the contract gi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838080"/>
            <a:ext cx="6477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QUIREMENT OF CONTRACT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A926D-6D20-4D51-A41B-C407B2081C57}" type="slidenum">
              <a:t>9</a:t>
            </a:fld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0T00:16:15Z</dcterms:created>
  <dc:creator>TOLL MANUFACTURING SPCLST</dc:creator>
  <dc:description/>
  <dc:language>en-US</dc:language>
  <cp:lastModifiedBy>NSBarwa</cp:lastModifiedBy>
  <dcterms:modified xsi:type="dcterms:W3CDTF">2005-12-06T06:36:25Z</dcterms:modified>
  <cp:revision>80</cp:revision>
  <dc:subject/>
  <dc:title>Slide 1</dc:title>
</cp:coreProperties>
</file>