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8913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1C09-0E3C-491F-8883-C395E083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1BF2D-8745-4471-AA12-BCF62D63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FB03E-AA59-4B2E-B585-5F723D7B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50612-095C-45B8-B32C-47D9CA3A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5C7B-5543-4C48-AAC9-25DDF644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1BFE-A880-4FFB-9F04-38390231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AB46-5D91-497B-A4D0-A4C7C3AA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E7D8-C9D9-47C6-A728-25EE6973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6CB0-0165-464D-862D-2031D866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4A93-5CD6-4386-BB43-8276B35A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1467-4B08-40B8-B14D-7D6FF197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36568-4C44-4BDD-B616-CA7880BB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1335-C1B8-4D7E-A1A3-3EB1A942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C079-77BB-4599-869D-8ACA1CBD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C74F-ACFE-41CE-8248-5262333A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A92D-9E47-49AA-BA3F-1985748F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29A4-6888-40E8-8528-EFF7DF06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6816B-5A39-4940-B5F9-BF135C94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96DDB-47C1-4BB4-8FA2-337617FF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11DF-0BCC-4603-A845-B0F0656D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B31A8-D296-4C3E-9745-C739594E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E824F-1DA7-4CF3-A92F-46D03D73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3B044-536D-407C-8A49-FD22ED0C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01538-1262-482F-921D-6294CB00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7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981F-72CE-45D3-9196-24C1B1A7AEC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320" y="81000"/>
            <a:ext cx="685800" cy="45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" name=""/>
          <p:cNvSpPr/>
          <p:nvPr/>
        </p:nvSpPr>
        <p:spPr>
          <a:xfrm>
            <a:off x="0" y="533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ffffff"/>
                </a:solidFill>
                <a:latin typeface="Arial"/>
              </a:rPr>
              <a:t>Project co-financed by European Un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458200" y="0"/>
          <a:ext cx="685800" cy="6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58200" y="0"/>
                    <a:ext cx="6858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8001000" y="609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ffffff"/>
                </a:solidFill>
                <a:latin typeface="Arial"/>
              </a:rPr>
              <a:t>Project co- financ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ffffff"/>
                </a:solidFill>
                <a:latin typeface="Arial"/>
              </a:rPr>
              <a:t>by Asea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76320" y="6321600"/>
            <a:ext cx="547560" cy="4600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609480" y="63216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  <a:ea typeface="MS PGothic"/>
              </a:rPr>
              <a:t>European Committee for Standardiza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  <a:ea typeface="MS PGothic"/>
              </a:rPr>
              <a:t>Implementing Agenc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Hyperlink ASEAN GMP 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MP Workshop Kuala Lumpur 14-16 Nov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81000"/>
            <a:ext cx="1295280" cy="789840"/>
            <a:chOff x="0" y="81000"/>
            <a:chExt cx="1295280" cy="7898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76320" y="81000"/>
              <a:ext cx="685800" cy="4525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56" name=""/>
            <p:cNvSpPr/>
            <p:nvPr/>
          </p:nvSpPr>
          <p:spPr>
            <a:xfrm>
              <a:off x="0" y="5335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ffffff"/>
                  </a:solidFill>
                  <a:latin typeface="Arial"/>
                </a:rPr>
                <a:t>Project co-financed by European Unio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8001000" y="0"/>
            <a:ext cx="1143000" cy="946800"/>
            <a:chOff x="8001000" y="0"/>
            <a:chExt cx="1143000" cy="946800"/>
          </a:xfrm>
        </p:grpSpPr>
        <p:graphicFrame>
          <p:nvGraphicFramePr>
            <p:cNvPr id="58" name=""/>
            <p:cNvGraphicFramePr/>
            <p:nvPr/>
          </p:nvGraphicFramePr>
          <p:xfrm>
            <a:off x="8458200" y="0"/>
            <a:ext cx="685800" cy="627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458200" y="0"/>
                      <a:ext cx="685800" cy="62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" name=""/>
            <p:cNvSpPr/>
            <p:nvPr/>
          </p:nvSpPr>
          <p:spPr>
            <a:xfrm>
              <a:off x="8001000" y="6094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ffffff"/>
                  </a:solidFill>
                  <a:latin typeface="Arial"/>
                </a:rPr>
                <a:t>Project co- finance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ffffff"/>
                  </a:solidFill>
                  <a:latin typeface="Arial"/>
                </a:rPr>
                <a:t>by Asea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76320" y="6321600"/>
            <a:ext cx="1752480" cy="460080"/>
            <a:chOff x="76320" y="6321600"/>
            <a:chExt cx="1752480" cy="460080"/>
          </a:xfrm>
        </p:grpSpPr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76320" y="6321600"/>
              <a:ext cx="5475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09480" y="63216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uropean Committee for Standardizatio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Implementing Agency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7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F9FB-AB79-448B-93DB-ECF0FA65918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43000" y="838080"/>
            <a:ext cx="68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RTING MATERIAL RECEP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3152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8001000" y="64771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6F607-67C0-4697-B9C2-9FCB3F1777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838080"/>
            <a:ext cx="7162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RTING MATERIAL STOCK CAR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480" y="1771560"/>
            <a:ext cx="7959960" cy="417204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2C1D0-3387-4F29-B256-0DEC21E7B8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5:50:31Z</dcterms:created>
  <dc:creator>ASEAN GMP TEAM</dc:creator>
  <dc:description/>
  <dc:language>en-US</dc:language>
  <cp:lastModifiedBy>NSBarwa</cp:lastModifiedBy>
  <cp:lastPrinted>2002-11-21T02:12:08Z</cp:lastPrinted>
  <dcterms:modified xsi:type="dcterms:W3CDTF">2005-11-03T18:51:41Z</dcterms:modified>
  <cp:revision>137</cp:revision>
  <dc:subject>GMP DOCUMENTATION</dc:subject>
  <dc:title>ASEAN GMP GUIDELINE</dc:title>
</cp:coreProperties>
</file>