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6CF8-0671-49CD-B594-C4FE23BC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DD03-401B-47AE-B538-B73499D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A3CD-219B-4ED0-AAF1-01C685C6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345C-75FB-427E-AB76-DD47D177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AD1D-76CA-4642-9024-9B678FA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034-AA22-46B3-9B6B-76F1E0C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BC68-0EC5-415E-8E02-B53103ED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ECC-08E4-4821-B1E3-7684A9C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72B-DAF5-4403-AEF0-A3D55CF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9710-CA8F-4F7E-8BBB-F62DAB5D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8738-C4CC-4B98-A60E-E0AA08D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0100-9936-4ADD-A8BA-BB30651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5BD-8975-4073-BF9D-54A3DBD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FFEA-AD97-4AEF-9C9F-2CA2DAE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B31D-951D-41AE-A1B6-839CBD47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8BC4-0C12-4A0A-A22C-77CE01C2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699-6E6E-47A3-B35E-CE71B578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5BC7-381A-44E4-8B52-62AACAD0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9CCC-FDAB-4FB5-ACDA-02D4A5F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CAD8-2171-4076-9A20-A7372F4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E85E-A881-4A2E-A9AB-C0363A1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D484-AF94-47CE-9923-6D81F18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A558-6395-43FA-A9FB-D00D9B1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3F92-7C2F-4DCD-AF7C-BD72CF6B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46F0-6177-44CC-A6D9-EBD760A33DC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financed by European Un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 financ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by Ase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Implementing Age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81000"/>
            <a:ext cx="1295280" cy="789840"/>
            <a:chOff x="0" y="81000"/>
            <a:chExt cx="1295280" cy="789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685800" cy="452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6" name=""/>
            <p:cNvSpPr/>
            <p:nvPr/>
          </p:nvSpPr>
          <p:spPr>
            <a:xfrm>
              <a:off x="0" y="5335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financed by European Un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001000" y="0"/>
            <a:ext cx="1143000" cy="946800"/>
            <a:chOff x="8001000" y="0"/>
            <a:chExt cx="1143000" cy="946800"/>
          </a:xfrm>
        </p:grpSpPr>
        <p:graphicFrame>
          <p:nvGraphicFramePr>
            <p:cNvPr id="58" name=""/>
            <p:cNvGraphicFramePr/>
            <p:nvPr/>
          </p:nvGraphicFramePr>
          <p:xfrm>
            <a:off x="8458200" y="0"/>
            <a:ext cx="685800" cy="62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8200" y="0"/>
                      <a:ext cx="68580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8001000" y="6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 finance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by Asea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6320" y="6321600"/>
            <a:ext cx="1752480" cy="460080"/>
            <a:chOff x="76320" y="6321600"/>
            <a:chExt cx="1752480" cy="46008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6320" y="6321600"/>
              <a:ext cx="5475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09480" y="632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uropean Committee for Standardiz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mplementing Agenc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270A-0BD5-4505-AD44-C8FDAAC302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57400" cy="217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3886200" cy="218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857400" cy="218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7200" y="1676520"/>
            <a:ext cx="3857760" cy="218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990720" y="838080"/>
            <a:ext cx="716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DUCT STATUS LABE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412A-DF08-4348-B852-F7E599FC1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PMENT STATUS LABE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221000" cy="2890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47400" y="50292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EAN 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80560" y="28954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NITIZED 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81532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2F88-5019-47A9-B0CF-36A8517E3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5:50:31Z</dcterms:created>
  <dc:creator>ASEAN GMP TEAM</dc:creator>
  <dc:description/>
  <dc:language>en-US</dc:language>
  <cp:lastModifiedBy>NSBarwa</cp:lastModifiedBy>
  <cp:lastPrinted>2002-11-21T02:12:08Z</cp:lastPrinted>
  <dcterms:modified xsi:type="dcterms:W3CDTF">2005-11-03T18:51:03Z</dcterms:modified>
  <cp:revision>140</cp:revision>
  <dc:subject>GMP DOCUMENTATION</dc:subject>
  <dc:title>ASEAN GMP GUIDELINE</dc:title>
</cp:coreProperties>
</file>