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47D-DF94-4F41-B71E-BC56D0D7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4D7-5F4E-4355-B8E9-E312A17A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807-D847-4D6B-8E5B-EC84850B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03D-5521-4211-9C4B-52F18B26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AE9-E5BD-4AB7-82CA-50E189B8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F75E-7FB4-4706-959B-C3A1C4E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2E6-A1D8-4805-8F57-8C98F9A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DA1-3FEA-4220-9810-4CBAF817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993D-4E28-4793-983A-FCA0EE2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80B-2DF8-4FD4-BE2C-0253902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9A1-B5CD-4525-B736-3D80980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1F4-1B4C-4123-9619-3349A705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EE5-5451-4C22-894C-98FC1EC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EF8-F2A4-464C-92F7-EA642BB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91C1-22CD-4AE0-A145-9792515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274-1C59-4795-9CC3-69614DD4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292-903E-4525-941D-F390DAE1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8A2-5B27-4EAB-AEEB-CED7B3B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F1B-4F58-41A9-8D25-0A0E582D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9A0-8D41-4FA2-8563-AD85BE6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301-0D7A-482D-8F86-D4B367A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B22-6930-4C1A-B3BF-76E3D7D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2E1-A2ED-4C9A-BBBE-5C3D1FD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E91-7459-4378-9F68-4A95430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Project co-financed by European Un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Project co- finan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by As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Implementing Age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11DD-F9D9-43F9-B634-2937A217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Project co-financed by European Un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Project co- finan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by As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Implementing Age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F8E-033C-46C8-B53D-303BF77D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51400" y="3962520"/>
            <a:ext cx="1699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QUIPMENT CHECK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1693800"/>
          <a:ext cx="7010640" cy="4554360"/>
        </p:xfrm>
        <a:graphic>
          <a:graphicData uri="http://schemas.openxmlformats.org/drawingml/2006/table">
            <a:tbl>
              <a:tblPr/>
              <a:tblGrid>
                <a:gridCol w="4908600"/>
                <a:gridCol w="1049400"/>
                <a:gridCol w="1052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IND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esign and Co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 surfaces of the equipment non-reactive, non-absorptive, or non-addit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y easily and conveniently cleanabl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y designed such that product will not be affected by leaking valves, lubricant drips, inappropriate repairs, maintenance, modifications or adapt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re explosion proof equipment used for flammable substan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nstallation and 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 equipment identified to avoid confusion of product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water, steam, pressure or vacuum lines installed for easy accessibility in all phases of operations, when applicab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e the equipments regularly calibrated and serviced with record upkeep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99E9-745A-415B-9BC8-0EBD887DF7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1:37:14Z</dcterms:created>
  <dc:creator>NSBarwa</dc:creator>
  <dc:description/>
  <dc:language>en-US</dc:language>
  <cp:lastModifiedBy>NSBarwa</cp:lastModifiedBy>
  <dcterms:modified xsi:type="dcterms:W3CDTF">2005-12-04T22:08:29Z</dcterms:modified>
  <cp:revision>7</cp:revision>
  <dc:subject/>
  <dc:title>ASEAN GMP TEAM FRANCE BENCHMARKING 23 – 29 October 2005</dc:title>
</cp:coreProperties>
</file>